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3993-09CC-4CC5-997F-026BDEEE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14A5-AB41-45EA-AD2A-286931B1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448F-7FB2-45C7-96D3-72B28CDE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32D4-A80F-4E6C-97C0-92923AA4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E9DD-8377-4007-9C27-45065D1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104D-6336-4241-A79E-8BBF073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3BE-9038-4B7C-BC79-0D1F6329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D98-2BDD-4DE5-9142-002305A3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A2F5-3FD8-430C-9614-D0C2C79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2190-8806-42D7-8495-E15E3238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1BD-B7D6-429B-BAE6-0BE64506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9D04-9A10-4EC5-878A-EAFB9BF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38B7-3805-4C9C-BAFF-6F9E888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D388-1547-48FA-AB7A-3EFDF57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99BE-E9E4-4D77-9DFA-01AD6947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E90E-D590-425D-9B35-153E18A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4CC3-643B-421A-9ECD-0465EDDC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CBA3-D152-4468-A281-BAB3E0B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094C-CDBF-4C6B-8B51-96551E4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D3CA-9AE5-4348-B285-ECD1972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BD8E-AD05-4AF8-B79F-0FC6503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2AB8-618F-4F93-A031-ED66D6A6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BD2D-07C9-46FB-B4F5-2362035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7313-36BF-412E-999F-F23EC1E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3F71-FA13-4EA1-8141-2CCB3247699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1FAE-9192-4521-9DD5-A86858B127D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(640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Учителю, буря страшн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заплашва да ни сраз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грозни облаци мрак сгъстяват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ой от смърт ще ни спас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ли Теб не Те тревож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гибел ни гроз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че корабът наш се люшк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роши сред бесуващи враз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-367920"/>
            <a:ext cx="1008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Той казва: „Стихиите са в Моя власт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уря в морето ли зла бесне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ил' хора зли, ил* сам Сатана вилней, корабът ще бъде във сигурнос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щом Господ Исус в него скъп е Гост! Стихиите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, стихни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тихиите вси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 и стихни!"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541440" y="530640"/>
            <a:ext cx="1008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Убит духом, аз веч чез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д гнета на страшник враг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отъвам, под мене е бездн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дай да Те видя па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ърце тревожно се свив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т мъка, страх и скръб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Теб душа ми смутена извиква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паси ме от явна смърт!"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541440" y="-367920"/>
            <a:ext cx="1008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Той казва: „Стихиите са в Моя власт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уря в морето ли зла бесне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ил' хора зли, ил* сам Сатана вилней, корабът ще бъде във сигурнос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щом Господ Исус в него скъп е Гост! Стихиите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, стихни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тихиите вси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 и стихни!"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Ей, бурята вече стих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адък настъпи пок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слънце мило се пак усмихна, заглъхна и грозний в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ебъдвай всякога с мене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мир Твой да ме крепи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 когато сърце занемее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и Себе Си ме вземи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-541440" y="-367920"/>
            <a:ext cx="1008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Припев: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Той казва: „Стихиите са в Моя власт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уря в морето ли зла бесне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ил' хора зли, ил* сам Сатана вилней, корабът ще бъде във сигурнос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щом Господ Исус в него скъп е Гост! Стихиите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, стихни! Спри, стихни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тихиите вси са в Моя власт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Спри и стихни!"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8:18Z</dcterms:modified>
  <cp:revision>149</cp:revision>
  <dc:subject/>
  <dc:title>Slide 1</dc:title>
</cp:coreProperties>
</file>